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11F-4738-48B3-A761-CB2F632D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FD9-44DB-4F97-BAE6-D1F7C9E6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290-C8C5-4BEA-AD23-E6AE0070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C97-E39E-4F95-8AAF-DA7629A3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6B7-F07A-4F2D-B934-328D706D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F3D-74E3-4565-BF56-1C634BC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949-59AA-4945-A653-670E5A4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682-2EC0-4A31-BB3F-1CE8BA9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BA3-274B-4863-AD06-C55A55E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A69-E3B4-4DC0-AFB5-4DE2D444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78D-FFCE-4F55-8E5A-D10CBB6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296-069F-438D-AF3D-33477F0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E3A-9856-4CB5-9017-319B1C6D3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9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terminamos el repaso para el examen del capitulo 2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la palabra corr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va al ___________ medico porque no esta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abre la boca y el medico _____ examina la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edico ________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va a la ________ con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armacéutico _________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armacéutico le da una _________ de pasti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el capitulo 2 para el examen MAÑAN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5:08:49Z</dcterms:created>
  <dc:creator>Helen Zumaeta</dc:creator>
  <dc:description/>
  <dc:language>en-US</dc:language>
  <cp:lastModifiedBy>Helen Zumaeta</cp:lastModifiedBy>
  <cp:lastPrinted>2013-05-28T20:51:04Z</cp:lastPrinted>
  <dcterms:modified xsi:type="dcterms:W3CDTF">2013-05-28T20:52:01Z</dcterms:modified>
  <cp:revision>7</cp:revision>
  <dc:subject/>
  <dc:title>Me llamo ________ Clase 7il La fecha es el 17 de enero del 2013</dc:title>
</cp:coreProperties>
</file>